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2.pct" ContentType="image/x-pict"/>
  <Override PartName="/ppt/media/image3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3.jpeg" ContentType="image/jpeg"/>
  <Override PartName="/ppt/media/image9.pct" ContentType="image/x-pict"/>
  <Override PartName="/ppt/media/image39.pct" ContentType="image/x-pict"/>
  <Override PartName="/ppt/media/image41.pct" ContentType="image/x-pict"/>
  <Override PartName="/ppt/media/image31.pct" ContentType="image/x-pict"/>
  <Override PartName="/ppt/media/image29.pct" ContentType="image/x-pict"/>
  <Override PartName="/ppt/media/image32.pct" ContentType="image/x-pict"/>
  <Override PartName="/ppt/media/image37.pct" ContentType="image/x-pict"/>
  <Override PartName="/ppt/media/image7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13.png" ContentType="image/png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2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648-0010-4FD7-80FD-3C67DB8E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EC3-32FF-49AF-85A6-BF6F70B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94D-5C96-449D-BF1F-CBDAECB7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D1D-A12D-4A99-9A3D-A1BDDBB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5AF-5C28-4BFB-881E-09BC1BAA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77F-615D-4D1E-9C69-14B70CE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84C-1F49-415A-BF23-5494A9CC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C21-41FB-4E61-89C6-76054A83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ADA5-1A35-434E-8A7A-9F22AE3F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5185-D479-4E42-B15C-85944E4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9AC9-3369-4CB5-B127-B24046D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9C3-8ACE-4A4B-9BF0-06BDA31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D5B5-A8E0-4FF9-9B8F-59C3724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E306-ED7E-444B-9D1F-D4E7997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9959-F029-479A-A510-A49EACCB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085-2FC9-4230-B3A4-ECC9B60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A29B-E95F-4949-9A8D-6024941E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48E-642B-4F93-9F81-62F76A0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A2F-D341-4890-8BD6-03F3CAC0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3B5-4E61-4A2C-8F39-C367CF0E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BAB-86C2-479A-8216-CA3E0B2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E12-0CAE-4160-BF71-69C99E3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FFC-3DB2-4407-AE56-D90B014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290-59CA-4DBC-96C4-9DEE916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2D37-673B-4664-909E-2F64A205C2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3D0-57BF-42D2-BAED-C4ABB2EB852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ct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ct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ct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ct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pct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pct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84872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s and Monomial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4856040"/>
            <a:ext cx="152424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762120"/>
            <a:ext cx="9144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nomial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n expression that is a number, a variable, or a product of a number and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nsta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monomial containing no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efficie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 numerical factor of a monomial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gre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sum of the exponents of a monomial’s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ower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expression of the form x</a:t>
            </a:r>
            <a:r>
              <a:rPr b="0" lang="en-US" sz="3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2286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2666880"/>
          <a:ext cx="1296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1296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562720" y="2895480"/>
          <a:ext cx="114588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95480"/>
                    <a:ext cx="1145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583320" y="4807080"/>
          <a:ext cx="16462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3320" y="4807080"/>
                    <a:ext cx="1646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19051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gative Exponent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800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ying Power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95480"/>
          <a:ext cx="80172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95480"/>
                    <a:ext cx="8017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49568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495680" y="2666880"/>
          <a:ext cx="784440" cy="11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666880"/>
                    <a:ext cx="784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257800" y="4876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00600" y="4724280"/>
          <a:ext cx="1752480" cy="85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7242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2286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867280" y="2286000"/>
          <a:ext cx="164484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0"/>
                    <a:ext cx="1644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172200" y="3733920"/>
          <a:ext cx="13953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733920"/>
                    <a:ext cx="1395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49400" y="5230800"/>
          <a:ext cx="7331040" cy="270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400" y="5230800"/>
                    <a:ext cx="73310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477120" y="5257800"/>
          <a:ext cx="184464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5257800"/>
                    <a:ext cx="1844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33520" y="20574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ing Power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4290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of a Powe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029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of a Produc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0574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52880" y="1981080"/>
          <a:ext cx="779760" cy="13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1981080"/>
                    <a:ext cx="7797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05520" y="360504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2880" y="3605040"/>
          <a:ext cx="111780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605040"/>
                    <a:ext cx="11178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952880" y="5638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952880" y="5181480"/>
          <a:ext cx="129564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5181480"/>
                    <a:ext cx="1295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2286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895480"/>
          <a:ext cx="1455480" cy="17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145548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19810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er of a Quotien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3341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er of Zero: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19720" y="5257800"/>
          <a:ext cx="141588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257800"/>
                    <a:ext cx="14158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09680" y="2971800"/>
          <a:ext cx="8305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971800"/>
                    <a:ext cx="830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553080" y="48006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5410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24280" y="2819520"/>
          <a:ext cx="1981440" cy="170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19814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58000" y="2895480"/>
          <a:ext cx="8730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895480"/>
                    <a:ext cx="873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915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using the laws of exponent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209680"/>
          <a:ext cx="4795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795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2209680"/>
          <a:ext cx="2743200" cy="7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209680"/>
                    <a:ext cx="27432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80880" y="3505320"/>
          <a:ext cx="423540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505320"/>
                    <a:ext cx="423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791320" y="2133720"/>
            <a:ext cx="259056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0" y="3581280"/>
          <a:ext cx="266688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581280"/>
                    <a:ext cx="26668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029200" y="3581280"/>
            <a:ext cx="2590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4648320"/>
          <a:ext cx="2233440" cy="186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648320"/>
                    <a:ext cx="223344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95480" y="4952880"/>
          <a:ext cx="1600200" cy="97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4952880"/>
                    <a:ext cx="1600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581280" y="4952880"/>
            <a:ext cx="9144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76720" y="2209680"/>
          <a:ext cx="19684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19684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886200" y="2133720"/>
            <a:ext cx="13716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0" y="3505320"/>
          <a:ext cx="16765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16765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971800" y="3505320"/>
            <a:ext cx="990720" cy="99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505320" y="5181480"/>
          <a:ext cx="2894040" cy="86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181480"/>
                    <a:ext cx="28940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80880" y="1981080"/>
          <a:ext cx="2819520" cy="14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981080"/>
                    <a:ext cx="281952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80880" y="3657600"/>
          <a:ext cx="198144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657600"/>
                    <a:ext cx="19814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80880" y="5270400"/>
          <a:ext cx="29718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270400"/>
                    <a:ext cx="2971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114800" y="5181480"/>
            <a:ext cx="22860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840" y="838080"/>
            <a:ext cx="346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xampl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4191120"/>
            <a:ext cx="2971800" cy="2133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133720"/>
          <a:ext cx="380988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38098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91120" y="2209680"/>
          <a:ext cx="3581280" cy="19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209680"/>
                    <a:ext cx="358128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743200" y="4419720"/>
          <a:ext cx="2743200" cy="16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419720"/>
                    <a:ext cx="27432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7920" y="10666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Exampl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400800" y="1981080"/>
            <a:ext cx="1219320" cy="1919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657600" y="1981080"/>
          <a:ext cx="200016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0001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870520" y="1979640"/>
          <a:ext cx="159408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0520" y="1979640"/>
                    <a:ext cx="15940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009800" y="1976400"/>
          <a:ext cx="2527200" cy="17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9800" y="1976400"/>
                    <a:ext cx="25272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28600" y="4267080"/>
          <a:ext cx="2982960" cy="14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267080"/>
                    <a:ext cx="29829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124080" y="4267080"/>
          <a:ext cx="2336760" cy="14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4267080"/>
                    <a:ext cx="23367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334120" y="4267080"/>
          <a:ext cx="2176200" cy="145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4267080"/>
                    <a:ext cx="21762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391520" y="4419720"/>
          <a:ext cx="1531800" cy="12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4419720"/>
                    <a:ext cx="15318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7696080" y="4343400"/>
            <a:ext cx="121932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360" y="1143000"/>
            <a:ext cx="27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mor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1:35:22Z</dcterms:created>
  <dc:creator>HCPS</dc:creator>
  <dc:description/>
  <dc:language>en-US</dc:language>
  <cp:lastModifiedBy>Parkland High School</cp:lastModifiedBy>
  <dcterms:modified xsi:type="dcterms:W3CDTF">2010-09-30T12:18:12Z</dcterms:modified>
  <cp:revision>20</cp:revision>
  <dc:subject/>
  <dc:title>Exponents and Monomials</dc:title>
</cp:coreProperties>
</file>